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85E-9E16-47B1-838B-DCC0CB00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803-ACB1-4EED-A67E-0E588F3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8DD-9097-4A67-A544-B70F3E82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26D-61DA-4874-B914-F89910D5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6AF-1A2A-4682-A54F-4CA403D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1FC-BFA0-472E-B972-AE955229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BAD-5E93-44C9-A5CF-B6826F93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072-0519-4EE8-BDF3-1AA24820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1C0-91E8-4B79-8DE4-F9918EC4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E6F-81EF-49B0-A621-914362DB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556-5271-4664-B909-339AB911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680-5264-442C-B9F6-DAE40A0F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E78E-9ED8-4C21-988E-462592D9F000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B388-90CC-4163-8120-3916C305C63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354400" y="2835000"/>
            <a:ext cx="4447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验活动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金属的物理性质和某些化学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八章  金属和金属材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9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3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26880" y="800280"/>
            <a:ext cx="80647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金属的化学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坩埚钳夹取一块铜片，放在酒精灯火焰上加热，观察铜片表面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835720" y="3070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铜片表面变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6151"/>
          <p:cNvGrpSpPr/>
          <p:nvPr/>
        </p:nvGrpSpPr>
        <p:grpSpPr>
          <a:xfrm>
            <a:off x="1917360" y="3862440"/>
            <a:ext cx="3381120" cy="810360"/>
            <a:chOff x="1917360" y="3862440"/>
            <a:chExt cx="3381120" cy="810360"/>
          </a:xfrm>
        </p:grpSpPr>
        <p:sp>
          <p:nvSpPr>
            <p:cNvPr id="102" name="Text Box 5"/>
            <p:cNvSpPr/>
            <p:nvPr/>
          </p:nvSpPr>
          <p:spPr>
            <a:xfrm>
              <a:off x="1917360" y="4024080"/>
              <a:ext cx="3381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2Cu+ O</a:t>
              </a:r>
              <a:r>
                <a:rPr b="1" lang="zh-CN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== 2Cu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6"/>
            <p:cNvSpPr/>
            <p:nvPr/>
          </p:nvSpPr>
          <p:spPr>
            <a:xfrm>
              <a:off x="3709800" y="3862440"/>
              <a:ext cx="358560" cy="328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ic_8011"/>
          <p:cNvPicPr/>
          <p:nvPr/>
        </p:nvPicPr>
        <p:blipFill>
          <a:blip r:embed="rId1"/>
          <a:stretch/>
        </p:blipFill>
        <p:spPr>
          <a:xfrm>
            <a:off x="5578560" y="2664000"/>
            <a:ext cx="1582560" cy="32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pic_8012"/>
          <p:cNvPicPr/>
          <p:nvPr/>
        </p:nvPicPr>
        <p:blipFill>
          <a:blip r:embed="rId2"/>
          <a:stretch/>
        </p:blipFill>
        <p:spPr>
          <a:xfrm>
            <a:off x="7307280" y="2638440"/>
            <a:ext cx="1655640" cy="3265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ic_8010"/>
          <p:cNvPicPr/>
          <p:nvPr/>
        </p:nvPicPr>
        <p:blipFill>
          <a:blip r:embed="rId3"/>
          <a:stretch/>
        </p:blipFill>
        <p:spPr>
          <a:xfrm>
            <a:off x="3706920" y="2681280"/>
            <a:ext cx="1728720" cy="322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pic_8009"/>
          <p:cNvPicPr/>
          <p:nvPr/>
        </p:nvPicPr>
        <p:blipFill>
          <a:blip r:embed="rId4"/>
          <a:stretch/>
        </p:blipFill>
        <p:spPr>
          <a:xfrm>
            <a:off x="250920" y="2664000"/>
            <a:ext cx="1674720" cy="325404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13"/>
          <p:cNvGrpSpPr/>
          <p:nvPr/>
        </p:nvGrpSpPr>
        <p:grpSpPr>
          <a:xfrm>
            <a:off x="1978200" y="2664000"/>
            <a:ext cx="1674720" cy="3254040"/>
            <a:chOff x="1978200" y="2664000"/>
            <a:chExt cx="1674720" cy="3254040"/>
          </a:xfrm>
        </p:grpSpPr>
        <p:pic>
          <p:nvPicPr>
            <p:cNvPr id="109" name="Picture 9" descr="pic_8009"/>
            <p:cNvPicPr/>
            <p:nvPr/>
          </p:nvPicPr>
          <p:blipFill>
            <a:blip r:embed="rId5"/>
            <a:stretch/>
          </p:blipFill>
          <p:spPr>
            <a:xfrm>
              <a:off x="1978200" y="2664000"/>
              <a:ext cx="1674720" cy="32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1" descr=""/>
            <p:cNvPicPr/>
            <p:nvPr/>
          </p:nvPicPr>
          <p:blipFill>
            <a:blip r:embed="rId6"/>
            <a:srcRect l="3993" t="7322" r="10405" b="0"/>
            <a:stretch/>
          </p:blipFill>
          <p:spPr>
            <a:xfrm rot="21469200">
              <a:off x="2373120" y="2803320"/>
              <a:ext cx="1225800" cy="175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2"/>
          <p:cNvSpPr/>
          <p:nvPr/>
        </p:nvSpPr>
        <p:spPr>
          <a:xfrm>
            <a:off x="330120" y="1111320"/>
            <a:ext cx="8551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试管中分别放入少量镁条、铝片、锌粒、铁片、铜片，然后分别加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稀盐酸（或稀硫酸），观察现象。如果有气体生成，判断生成的气体是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30120" y="1111320"/>
            <a:ext cx="8551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支试管中分别放入少量镁条、铝片、锌粒、铁片、铜片，然后分别加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稀盐酸（或稀硫酸），观察现象。如果有气体生成，判断生成的气体是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44720" y="2494080"/>
          <a:ext cx="7345080" cy="3828960"/>
        </p:xfrm>
        <a:graphic>
          <a:graphicData uri="http://schemas.openxmlformats.org/drawingml/2006/table">
            <a:tbl>
              <a:tblPr/>
              <a:tblGrid>
                <a:gridCol w="1657080"/>
                <a:gridCol w="5688000"/>
              </a:tblGrid>
              <a:tr h="63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金  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现    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48"/>
          <p:cNvSpPr/>
          <p:nvPr/>
        </p:nvSpPr>
        <p:spPr>
          <a:xfrm>
            <a:off x="3176640" y="5099040"/>
            <a:ext cx="48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缓慢反应，有极少量气泡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4260960" y="573408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明显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0"/>
          <p:cNvSpPr/>
          <p:nvPr/>
        </p:nvSpPr>
        <p:spPr>
          <a:xfrm>
            <a:off x="3168720" y="4489560"/>
            <a:ext cx="45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很快反应，产生大量的气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1"/>
          <p:cNvSpPr/>
          <p:nvPr/>
        </p:nvSpPr>
        <p:spPr>
          <a:xfrm>
            <a:off x="3079800" y="32018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迅速剧烈反应，产生大量的气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2"/>
          <p:cNvSpPr/>
          <p:nvPr/>
        </p:nvSpPr>
        <p:spPr>
          <a:xfrm>
            <a:off x="3178080" y="383076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剧烈反应，产生大量的气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20840" y="619200"/>
            <a:ext cx="8424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请你设计并进行实验，比较铁、铜、银的金属活动性强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28720" y="1989000"/>
          <a:ext cx="7993080" cy="3816360"/>
        </p:xfrm>
        <a:graphic>
          <a:graphicData uri="http://schemas.openxmlformats.org/drawingml/2006/table">
            <a:tbl>
              <a:tblPr/>
              <a:tblGrid>
                <a:gridCol w="2521080"/>
                <a:gridCol w="2879640"/>
                <a:gridCol w="2592360"/>
              </a:tblGrid>
              <a:tr h="1046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实验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实验现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实验结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（金属活动性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1488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37"/>
          <p:cNvSpPr/>
          <p:nvPr/>
        </p:nvSpPr>
        <p:spPr>
          <a:xfrm>
            <a:off x="969840" y="304956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将铁片插入硫酸铜溶液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3564000" y="3121200"/>
            <a:ext cx="25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片表面有红色物质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6737400" y="3259080"/>
            <a:ext cx="12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900000" y="457056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将铜片插入硝酸银溶液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3706920" y="464328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铜片表面有银白色物质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6804000" y="485928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3"/>
          <p:cNvSpPr/>
          <p:nvPr/>
        </p:nvSpPr>
        <p:spPr>
          <a:xfrm>
            <a:off x="3046320" y="5905440"/>
            <a:ext cx="33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论：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41440" y="803160"/>
            <a:ext cx="828036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经典空趣体简"/>
                <a:ea typeface="经典空趣体简"/>
              </a:rPr>
              <a:t>问题与交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铁是银白色金属。在上述实验中，你观察到的铁片和铁粉是什么颜色的？你有什么问题？查阅资料，与同学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82520" y="3324240"/>
            <a:ext cx="14608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铁粉：灰黑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铁片：银白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76440" y="4764240"/>
            <a:ext cx="8001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因为铁粉比较细，光学原因造成漫反射，只有很少的光进入我们的眼睛，所以铁粉显黑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09680" y="2874960"/>
            <a:ext cx="79214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【实验用品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试管、试管夹、酒精灯、坩埚钳、电池、导线、小灯泡、火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镁条、锌粒、铝片、铁片、铁粉、铜片、黄铜片（或白铜片）、稀盐酸、稀硫酸、硫酸铜溶液、硝酸银溶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你还需要的实验用品：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r>
              <a:rPr b="1" lang="zh-CN" sz="2400" spc="-1" strike="noStrike" u="sng">
                <a:solidFill>
                  <a:srgbClr val="00b050"/>
                </a:solidFill>
                <a:uFillTx/>
                <a:latin typeface="宋体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365040" y="789120"/>
            <a:ext cx="79218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【实验目的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巩固和加深对金属性质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实验设计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68280" y="581040"/>
            <a:ext cx="8294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【实验步骤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金属的物理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观察并描述镁、铝、铁、铜的颜色和光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00120" y="2421000"/>
          <a:ext cx="8292960" cy="1154160"/>
        </p:xfrm>
        <a:graphic>
          <a:graphicData uri="http://schemas.openxmlformats.org/drawingml/2006/table">
            <a:tbl>
              <a:tblPr/>
              <a:tblGrid>
                <a:gridCol w="2454120"/>
                <a:gridCol w="1314720"/>
                <a:gridCol w="1533240"/>
                <a:gridCol w="1457640"/>
                <a:gridCol w="1533240"/>
              </a:tblGrid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金属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颜色、光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900000" y="4941720"/>
          <a:ext cx="7464600" cy="1155600"/>
        </p:xfrm>
        <a:graphic>
          <a:graphicData uri="http://schemas.openxmlformats.org/drawingml/2006/table">
            <a:tbl>
              <a:tblPr/>
              <a:tblGrid>
                <a:gridCol w="2063880"/>
                <a:gridCol w="2736720"/>
                <a:gridCol w="2664000"/>
              </a:tblGrid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金属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铜片、铝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铜片、黄铜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硬度比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文本框 2"/>
          <p:cNvSpPr/>
          <p:nvPr/>
        </p:nvSpPr>
        <p:spPr>
          <a:xfrm>
            <a:off x="446040" y="3772080"/>
            <a:ext cx="7958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360" indent="-6843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采取相互刻画的方法，比较铜片和铝片、铜片和黄铜片（或白铜片）的硬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1185840" y="1847880"/>
            <a:ext cx="3097080" cy="357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5002200" y="1847880"/>
            <a:ext cx="2944800" cy="351792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3"/>
          <p:cNvSpPr/>
          <p:nvPr/>
        </p:nvSpPr>
        <p:spPr>
          <a:xfrm>
            <a:off x="3500640" y="855720"/>
            <a:ext cx="8438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并描述镁、铝、铁、铜的颜色和光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00000" y="1657440"/>
            <a:ext cx="3384720" cy="2892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4767120" y="165744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3"/>
          <p:cNvSpPr/>
          <p:nvPr/>
        </p:nvSpPr>
        <p:spPr>
          <a:xfrm>
            <a:off x="3500640" y="855720"/>
            <a:ext cx="8438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并描述镁、铝、铁、铜的颜色和光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28480" y="5075280"/>
          <a:ext cx="8292960" cy="1154160"/>
        </p:xfrm>
        <a:graphic>
          <a:graphicData uri="http://schemas.openxmlformats.org/drawingml/2006/table">
            <a:tbl>
              <a:tblPr/>
              <a:tblGrid>
                <a:gridCol w="2454120"/>
                <a:gridCol w="1314720"/>
                <a:gridCol w="1533240"/>
                <a:gridCol w="1457640"/>
                <a:gridCol w="1533240"/>
              </a:tblGrid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金属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颜色、光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41"/>
          <p:cNvSpPr/>
          <p:nvPr/>
        </p:nvSpPr>
        <p:spPr>
          <a:xfrm>
            <a:off x="3246120" y="567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银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2"/>
          <p:cNvSpPr/>
          <p:nvPr/>
        </p:nvSpPr>
        <p:spPr>
          <a:xfrm>
            <a:off x="4476600" y="569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银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3"/>
          <p:cNvSpPr/>
          <p:nvPr/>
        </p:nvSpPr>
        <p:spPr>
          <a:xfrm>
            <a:off x="6125760" y="569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银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4"/>
          <p:cNvSpPr/>
          <p:nvPr/>
        </p:nvSpPr>
        <p:spPr>
          <a:xfrm>
            <a:off x="7638840" y="5722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紫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ic_8005"/>
          <p:cNvPicPr/>
          <p:nvPr/>
        </p:nvPicPr>
        <p:blipFill>
          <a:blip r:embed="rId1"/>
          <a:stretch/>
        </p:blipFill>
        <p:spPr>
          <a:xfrm>
            <a:off x="1146240" y="1736640"/>
            <a:ext cx="3887640" cy="3440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31640" y="67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采用相互刻画的方法，比较铜片和铝片、铜片和黄铜片（或白铜片）的硬度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813280" y="2187720"/>
            <a:ext cx="2376720" cy="2303280"/>
          </a:xfrm>
          <a:prstGeom prst="irregularSeal2">
            <a:avLst/>
          </a:prstGeom>
          <a:solidFill>
            <a:srgbClr val="d6f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刻  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71640" y="5157720"/>
          <a:ext cx="7464240" cy="1155600"/>
        </p:xfrm>
        <a:graphic>
          <a:graphicData uri="http://schemas.openxmlformats.org/drawingml/2006/table">
            <a:tbl>
              <a:tblPr/>
              <a:tblGrid>
                <a:gridCol w="2063520"/>
                <a:gridCol w="2736720"/>
                <a:gridCol w="2664000"/>
              </a:tblGrid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金属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铜片、铝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铜片、黄铜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5d6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硬度比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solidFill>
                      <a:srgbClr val="fbe5d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69"/>
          <p:cNvSpPr/>
          <p:nvPr/>
        </p:nvSpPr>
        <p:spPr>
          <a:xfrm>
            <a:off x="3658320" y="580536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u &gt;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0"/>
          <p:cNvSpPr/>
          <p:nvPr/>
        </p:nvSpPr>
        <p:spPr>
          <a:xfrm>
            <a:off x="6393240" y="580536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黄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&gt; 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u=2412247168,2887070399&amp;fm=21&amp;gp=0"/>
          <p:cNvPicPr/>
          <p:nvPr/>
        </p:nvPicPr>
        <p:blipFill>
          <a:blip r:embed="rId1"/>
          <a:stretch/>
        </p:blipFill>
        <p:spPr>
          <a:xfrm>
            <a:off x="1909800" y="2725560"/>
            <a:ext cx="5543640" cy="349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71520" y="1935000"/>
            <a:ext cx="822960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导电性：将金属铜（或铝）接入电路中，如果灯泡亮，证明金属能导电（有导电性）；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72880" y="582480"/>
            <a:ext cx="8353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请你设计并进行实验，证明金属具有导电性（或导热性、延展性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71520" y="89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导热性：剪一段金属，加热一端，如果另一端也能感受到变热，证明金属具有导热性；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32108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5120" y="94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5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延展性：将一根铁丝在空气中持续加热至红炽，并在两端用镊子轻拉，铁丝明显拉长，证明金属具有延展性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25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25000"/>
              </a:lnSpc>
              <a:spcBef>
                <a:spcPts val="26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629080" y="2708280"/>
            <a:ext cx="424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7T09:20:56Z</dcterms:modified>
  <cp:revision>3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